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8AAD0-DB0F-47AE-8FCB-C77A0FC3B94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07348-D11E-44E9-A4A6-A73ADA28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26C81-6FA1-42BE-A4BC-D931EA9B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F501-53F1-425F-8040-75300EDC95D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9279-0D83-4237-90E6-8C576C57D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337A1-8653-485E-8EB4-63BD0BB4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43BEB-A3DF-4E5E-89AB-8E9EC4A0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06952-9FF5-44A8-8733-1412AA10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4E821-DB84-4FF9-A8BD-F686B6784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ACE7B-39B7-41F7-924D-422111D6D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B57E2-0E10-4990-AA6D-5A767C839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4AF7F-9531-43C8-8183-BA034D8B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2CC43-F497-4C1D-A62D-CAB2F6AD49F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第五章   产褥期管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褥期妇女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Rectangle 3"/>
          <p:cNvSpPr/>
          <p:nvPr/>
        </p:nvSpPr>
        <p:spPr>
          <a:xfrm>
            <a:off x="304920" y="1371600"/>
            <a:ext cx="8731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（一）临床表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内可升高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≤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，可出现泌乳热，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7.8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9℃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可自行恢复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宫缩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时产生，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出现，持续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日缓解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Rectangle 3"/>
          <p:cNvSpPr/>
          <p:nvPr/>
        </p:nvSpPr>
        <p:spPr>
          <a:xfrm>
            <a:off x="250920" y="1052640"/>
            <a:ext cx="8732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恶露：经阴道排除的坏死的蜕膜组织、血液和宫腔渗出物等。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24000" y="2133720"/>
          <a:ext cx="8820000" cy="4248000"/>
        </p:xfrm>
        <a:graphic>
          <a:graphicData uri="http://schemas.openxmlformats.org/drawingml/2006/table">
            <a:tbl>
              <a:tblPr/>
              <a:tblGrid>
                <a:gridCol w="3024000"/>
                <a:gridCol w="2855880"/>
                <a:gridCol w="2940120"/>
              </a:tblGrid>
              <a:tr h="46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血性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浆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ffff"/>
                          </a:solidFill>
                          <a:latin typeface="Songti SC Regular"/>
                          <a:ea typeface="Songti SC Regular"/>
                        </a:rPr>
                        <a:t>白色恶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3786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血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鲜红，量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红细胞、胎膜、坏死蜕膜组织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4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多量浆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淡红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较多的坏死蜕膜、子宫颈黏液、阴道排液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7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～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10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日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含大量白细胞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色较白，质黏稠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镜下可见大量白细胞、坏死蜕膜组织、表皮细胞及细菌等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持续约</a:t>
                      </a:r>
                      <a:r>
                        <a:rPr b="1" lang="en-US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3</a:t>
                      </a:r>
                      <a:r>
                        <a:rPr b="1" lang="zh-CN" sz="2400" spc="-1" strike="noStrike">
                          <a:solidFill>
                            <a:srgbClr val="046ca6"/>
                          </a:solidFill>
                          <a:latin typeface="Songti SC Regular"/>
                          <a:ea typeface="Songti SC Regular"/>
                        </a:rPr>
                        <a:t>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1763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消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周恢复至未孕状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排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褥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泌尿增多、排尿困难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便秘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Rectangle 3"/>
          <p:cNvSpPr/>
          <p:nvPr/>
        </p:nvSpPr>
        <p:spPr>
          <a:xfrm>
            <a:off x="755640" y="134136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初期易出现乳头皲裂、乳房胀痛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重减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下肢静脉血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压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与产妇体内的雌、孕激素水平急剧下降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心理压力及疲劳有关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血、尿常规检查和药物敏感试验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前检查经历、分娩经过，评估用药史，特别注意妊娠、分娩过程中的异常情况及其处理经过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妇对分娩的感受、产妇的自我形象、母亲角色适应情况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处理原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健康行为指导的护理活动为主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尿潴留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睡眠型态紊乱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250920" y="1268280"/>
            <a:ext cx="8732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一）评估生命体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体温：一般不超过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脉搏：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呼吸：深慢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血压：平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二）休息与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休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开窗通风，保持空气新鲜。保持床单位清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干燥。保证产妇足够营养和睡眠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饮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0kcal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脂肪摄入占总热量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/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胆固醇＜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300m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保证无机盐类摄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期母体变化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排尿与排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评估产后</a:t>
            </a:r>
            <a:r>
              <a:rPr b="0" lang="zh-CN" sz="3200" spc="-1" strike="noStrike">
                <a:solidFill>
                  <a:srgbClr val="161616"/>
                </a:solidFill>
                <a:latin typeface="宋体"/>
              </a:rPr>
              <a:t>初次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排尿时间及尿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h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鼓励产妇排尿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不能自行排尿者：坐起、热水熏洗外阴；针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刺穴位；运用药物；导尿等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多饮水、吃含纤维食物，防止便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避免负重，预防子宫脱垂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179280" y="1268280"/>
            <a:ext cx="873144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子宫复旧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观察恶露的色、量、味，以确定子宫复旧是否良好，有无感染。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内应详细记录子宫底高度和恶露情况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78" name="内容占位符 1" descr=""/>
          <p:cNvPicPr/>
          <p:nvPr/>
        </p:nvPicPr>
        <p:blipFill>
          <a:blip r:embed="rId1"/>
          <a:stretch/>
        </p:blipFill>
        <p:spPr>
          <a:xfrm>
            <a:off x="231840" y="1871640"/>
            <a:ext cx="875988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外阴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︰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高锰酸钾溶液冲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观察会阴伤口有无红肿、出血、硬结、异常分泌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900000" y="3716280"/>
          <a:ext cx="7427880" cy="1554120"/>
        </p:xfrm>
        <a:graphic>
          <a:graphicData uri="http://schemas.openxmlformats.org/drawingml/2006/table">
            <a:tbl>
              <a:tblPr/>
              <a:tblGrid>
                <a:gridCol w="1695600"/>
                <a:gridCol w="5732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水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95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乙醇或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50% 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硫酸镁湿热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血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湿敷、红外灯照射、切开处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硬结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大黄、芒硝外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79280" y="1052640"/>
            <a:ext cx="87314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乳房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395280" y="1628640"/>
          <a:ext cx="8280360" cy="4892760"/>
        </p:xfrm>
        <a:graphic>
          <a:graphicData uri="http://schemas.openxmlformats.org/drawingml/2006/table">
            <a:tbl>
              <a:tblPr/>
              <a:tblGrid>
                <a:gridCol w="2808360"/>
                <a:gridCol w="547200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一般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哺乳前湿敷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5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时采用适当姿势，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15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20min</a:t>
                      </a: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；哺乳后挤出少量乳汁涂在乳头乳晕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异常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妊娠中期纠正；无法纠正者使用乳头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120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房胀痛及乳腺炎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鼓励早期喂奶；哺乳前热敷乳房；哺乳时充分吸空乳汁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乳头皲裂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皲裂处涂敷蓖麻油铋糊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84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宋体"/>
                        </a:rPr>
                        <a:t>退乳护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161616"/>
                          </a:solidFill>
                          <a:latin typeface="Verdana"/>
                        </a:rPr>
                        <a:t>遵医嘱给予药物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频次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2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小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时间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最初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min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延长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mi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哺乳姿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扶拖乳房，让婴儿含入乳头和大部分乳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褥期妇女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179280" y="1268280"/>
            <a:ext cx="8731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七）母乳喂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哺乳后将新生儿竖起轻拍背部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～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min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，排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胃内空气，以防吐奶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八）出院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般生活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院后母乳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计划生育指导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保健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250920" y="2781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三节  正常新生儿的护理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常新生儿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37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足周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≤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胎龄＜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42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d0d0d"/>
                </a:solidFill>
                <a:latin typeface="宋体"/>
              </a:rPr>
              <a:t>出生体重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≥ 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500g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新生儿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儿出生断脐后到满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天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50920" y="1916280"/>
          <a:ext cx="8642160" cy="4295520"/>
        </p:xfrm>
        <a:graphic>
          <a:graphicData uri="http://schemas.openxmlformats.org/drawingml/2006/table">
            <a:tbl>
              <a:tblPr/>
              <a:tblGrid>
                <a:gridCol w="1655640"/>
                <a:gridCol w="698652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呼吸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腹式呼吸、节律常不规则、频率较快，约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5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循环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心率较快、波动范围大，平均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消化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开始排便、黑绿色黏稠状。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d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转为正常大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泌尿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h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内排尿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次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日。早期尿色深，稍浑浊，放置有红褐色沉淀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神经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各感官灵敏度不一，睡眠时间长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250920" y="1916280"/>
          <a:ext cx="8892720" cy="2408040"/>
        </p:xfrm>
        <a:graphic>
          <a:graphicData uri="http://schemas.openxmlformats.org/drawingml/2006/table">
            <a:tbl>
              <a:tblPr/>
              <a:tblGrid>
                <a:gridCol w="1778760"/>
                <a:gridCol w="7113960"/>
              </a:tblGrid>
              <a:tr h="944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温调节中枢发育尚不完善，易受外温影响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94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免疫系统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尚不成熟，胎儿期获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G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，未获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和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gM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皮肤黏膜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出生覆盖灰白色胎脂，数小时后吸收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全身各器官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除乳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从胎盘娩出恢复至未孕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约</a:t>
            </a:r>
            <a:r>
              <a:rPr b="1" lang="en-US" sz="3200" spc="-1" strike="noStrike">
                <a:solidFill>
                  <a:srgbClr val="0d0d0d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正常新生儿生理特点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常见的几种生理状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皮珠和“马牙”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黄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理性体重下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乳腺肿大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假月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出生后即刻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入母婴同室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史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身体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日常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体温失调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感染的危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娩出时注意保暖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出生后立刻擦干身体，采取保暖措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母婴同室房间温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℃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湿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5%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%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保证安全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病历有新生儿右脚印及其母右拇指印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新生儿手圈、操作核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垫、床围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床头柜禁止摆放危险物品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保持呼吸道通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及时清除口鼻内液体、分泌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持合适卧位，避免窒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包被、奶瓶、乳房等物压迫呼吸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预防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环境消毒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咽拭子培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传染病新生儿隔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脐部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皮肤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预防接种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卡介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乙肝疫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【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合理喂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生后半小时内吸吮母乳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六）早期教养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训练新生儿视觉、听觉功能，培养反射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三节  正常新生儿的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2400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生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生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乳房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血液循环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消化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泌尿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内分泌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     </a:t>
            </a:r>
            <a:r>
              <a:rPr b="0" lang="en-US" sz="2800" spc="-1" strike="noStrike">
                <a:solidFill>
                  <a:srgbClr val="046ca6"/>
                </a:solidFill>
                <a:latin typeface="宋体"/>
              </a:rPr>
              <a:t>--</a:t>
            </a:r>
            <a:r>
              <a:rPr b="0" lang="zh-CN" sz="2800" spc="-1" strike="noStrike">
                <a:solidFill>
                  <a:srgbClr val="046ca6"/>
                </a:solidFill>
                <a:latin typeface="宋体"/>
              </a:rPr>
              <a:t>腹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6" name="图表 6" descr=""/>
          <p:cNvPicPr/>
          <p:nvPr/>
        </p:nvPicPr>
        <p:blipFill>
          <a:blip r:embed="rId1"/>
          <a:stretch/>
        </p:blipFill>
        <p:spPr>
          <a:xfrm>
            <a:off x="390600" y="901800"/>
            <a:ext cx="842940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Rectangle 3"/>
          <p:cNvSpPr/>
          <p:nvPr/>
        </p:nvSpPr>
        <p:spPr>
          <a:xfrm>
            <a:off x="557280" y="134136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Line 7"/>
          <p:cNvSpPr/>
          <p:nvPr/>
        </p:nvSpPr>
        <p:spPr>
          <a:xfrm flipV="1">
            <a:off x="4572000" y="3068280"/>
            <a:ext cx="0" cy="237636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61928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二醇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孕酮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催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具备泌乳功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 flipH="1" flipV="1">
            <a:off x="7523280" y="3068640"/>
            <a:ext cx="1440" cy="244800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61928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4570560" y="3213000"/>
            <a:ext cx="2952720" cy="0"/>
          </a:xfrm>
          <a:prstGeom prst="line">
            <a:avLst/>
          </a:prstGeom>
          <a:ln w="28440">
            <a:solidFill>
              <a:srgbClr val="ff66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7"/>
          <p:cNvSpPr/>
          <p:nvPr/>
        </p:nvSpPr>
        <p:spPr>
          <a:xfrm flipV="1">
            <a:off x="1619280" y="3068280"/>
            <a:ext cx="0" cy="2521080"/>
          </a:xfrm>
          <a:prstGeom prst="line">
            <a:avLst/>
          </a:prstGeom>
          <a:ln w="349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572000" y="3429000"/>
            <a:ext cx="2951280" cy="2160720"/>
          </a:xfrm>
          <a:prstGeom prst="rect">
            <a:avLst/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胎盘生乳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雌激素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</a:rPr>
              <a:t>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乳汁开始分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文本框 2"/>
          <p:cNvSpPr/>
          <p:nvPr/>
        </p:nvSpPr>
        <p:spPr>
          <a:xfrm>
            <a:off x="197964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妊娠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文本框 18"/>
          <p:cNvSpPr/>
          <p:nvPr/>
        </p:nvSpPr>
        <p:spPr>
          <a:xfrm>
            <a:off x="4932360" y="2492280"/>
            <a:ext cx="2160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</a:rPr>
              <a:t>产后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643280" y="1125360"/>
            <a:ext cx="3745080" cy="790920"/>
          </a:xfrm>
          <a:prstGeom prst="wedgeRoundRectCallout">
            <a:avLst>
              <a:gd name="adj1" fmla="val 6648"/>
              <a:gd name="adj2" fmla="val 207412"/>
              <a:gd name="adj3" fmla="val 16667"/>
            </a:avLst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91344"/>
                </a:solidFill>
                <a:latin typeface="Arial"/>
              </a:rPr>
              <a:t>哺乳过程和不断排空乳房是维持乳腺不断泌乳的关键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文本框 21"/>
          <p:cNvSpPr/>
          <p:nvPr/>
        </p:nvSpPr>
        <p:spPr>
          <a:xfrm>
            <a:off x="4140360" y="27813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分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2" name="图表 1" descr=""/>
          <p:cNvPicPr/>
          <p:nvPr/>
        </p:nvPicPr>
        <p:blipFill>
          <a:blip r:embed="rId1"/>
          <a:stretch/>
        </p:blipFill>
        <p:spPr>
          <a:xfrm>
            <a:off x="317520" y="1335240"/>
            <a:ext cx="8697960" cy="4889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24000" y="126828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四）消化系统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后逐步复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五）泌尿系统：产后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2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复原，警惕产褥早期尿路感染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六）内分泌系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不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月经复潮，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10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哺乳产妇：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4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个月恢复排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（七）腹壁：出现不可消退妊娠纹。腹壁松弛，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6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～</a:t>
            </a:r>
            <a:r>
              <a:rPr b="1" lang="en-US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8</a:t>
            </a:r>
            <a:r>
              <a:rPr b="1" lang="zh-CN" sz="3200" spc="-1" strike="noStrike">
                <a:solidFill>
                  <a:srgbClr val="0d0d0d"/>
                </a:solidFill>
                <a:latin typeface="Songti SC Regular"/>
                <a:ea typeface="Songti SC Regular"/>
              </a:rPr>
              <a:t>周恢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期母体变化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9" name="图表 2" descr=""/>
          <p:cNvPicPr/>
          <p:nvPr/>
        </p:nvPicPr>
        <p:blipFill>
          <a:blip r:embed="rId1"/>
          <a:stretch/>
        </p:blipFill>
        <p:spPr>
          <a:xfrm>
            <a:off x="139680" y="1676520"/>
            <a:ext cx="8650440" cy="47052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250920" y="1125360"/>
            <a:ext cx="861048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宋体"/>
              </a:rPr>
              <a:t>产褥期心理调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46ca6"/>
                </a:solidFill>
                <a:latin typeface="宋体"/>
              </a:rPr>
              <a:t>    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17:27Z</dcterms:modified>
  <cp:revision>1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